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3F02-287A-4DF7-AD61-C4B3AE21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F436-7E2E-4E19-8593-B59E273D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28C5-89BB-440D-81EF-9603A26B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C1A4-2414-4342-AADD-BBA876DB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89AD-C5F2-4506-A0A8-3E01E257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9AB4-7D60-40F9-8C12-25774CB0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7B20-FFD4-4D1F-99B6-0B4A2FF3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35B1-D650-470E-80E1-7A7F7716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E578-CBB9-4766-96CE-3754290A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38AC-03F1-4C6A-BB3C-71C146EA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736A-A2DB-4916-A3BC-09EE9AD5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093C-A6B4-4ADE-A6B4-23750F5F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9A8F-5260-47D5-9C93-C70F90055CB2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5" descr="http://www.dreamstime.com/cartoon-virus-germs-thumb18781277.jpg"/>
          <p:cNvPicPr/>
          <p:nvPr/>
        </p:nvPicPr>
        <p:blipFill>
          <a:blip r:embed="rId1"/>
          <a:stretch/>
        </p:blipFill>
        <p:spPr>
          <a:xfrm>
            <a:off x="2627280" y="19810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Size of Viru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y are microscopic and can only be seen using an electron microsc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y range in size between 20-40n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1 nm = 1.0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Arial"/>
              </a:rPr>
              <a:t>-6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m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Shape of Viru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y have two basic shap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Helical (rod-shap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Cubic or polyhedral (many-sid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Reproductive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re are two ways that viruses can reproduce within a living cel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Lytic Cy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Lysogenic Cy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Use pages 56 - 58 to answer the accompanying work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9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4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Some fact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y are microscopic , nonliving parti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ome are harmless, while others kill their hosts, ALL are infectiou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y do not display most of the characteristics of living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y cannot fit into any of the 6 Kingd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y require a host (living ce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Once inside a living cell, it reprodu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H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se are living cells in which viruses reprod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Viruses are selective with regards to their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ink of viruses as packages of genetic instructions that take control of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y enter only specific hosts or cell types eg. HIV only effects CD4 T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Viral Stru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Viruses vary in individual structure, but all viruses are made up of two compon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Nucleic acid : DNA or R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Capsid: a protein coat that gives viruses their shape and accounts for 95% of the virus; this also determines what type of cell the virus attaches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Viruses are classified into orders, families, genus and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re classified based on: size, shape and type of genetic ma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Arial"/>
              </a:rPr>
              <a:t>Bacteriophage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: a virus that only infects bacterial cells.  It does not enter the host cell, but rather injects its DNA inside and the protein capsule remains outside the c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ome viruses may have additional structu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Envelopes: consist of lipids and are found only in some viruses; it is believed to come from the host cell when the virus exits the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Tail: viruses that infect bacteria have a tail used for attach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Refer to dia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http://img.sparknotes.com/figures/2/285caff64361a769a0850014b87c228c/structure.gif"/>
          <p:cNvPicPr/>
          <p:nvPr/>
        </p:nvPicPr>
        <p:blipFill>
          <a:blip r:embed="rId1"/>
          <a:stretch/>
        </p:blipFill>
        <p:spPr>
          <a:xfrm>
            <a:off x="2843280" y="620640"/>
            <a:ext cx="332748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ttp://www.chm.bris.ac.uk/webprojects2006/Kelly/influenzafigure1.jpg"/>
          <p:cNvPicPr/>
          <p:nvPr/>
        </p:nvPicPr>
        <p:blipFill>
          <a:blip r:embed="rId1"/>
          <a:stretch/>
        </p:blipFill>
        <p:spPr>
          <a:xfrm>
            <a:off x="1403280" y="1557360"/>
            <a:ext cx="633420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micro.magnet.fsu.edu/cells/viruses/images/hivstructurefigure1.jpg"/>
          <p:cNvPicPr/>
          <p:nvPr/>
        </p:nvPicPr>
        <p:blipFill>
          <a:blip r:embed="rId1"/>
          <a:stretch/>
        </p:blipFill>
        <p:spPr>
          <a:xfrm>
            <a:off x="1763640" y="907920"/>
            <a:ext cx="511344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21:41:17Z</dcterms:created>
  <dc:creator>Fraser &amp; Kate</dc:creator>
  <dc:description/>
  <dc:language>en-US</dc:language>
  <cp:lastModifiedBy>Phillips, Sarah</cp:lastModifiedBy>
  <dcterms:modified xsi:type="dcterms:W3CDTF">2013-02-19T19:54:50Z</dcterms:modified>
  <cp:revision>8</cp:revision>
  <dc:subject/>
  <dc:title>Viruses</dc:title>
</cp:coreProperties>
</file>